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7C35-2346-4C2A-AF49-DB413902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D13C-93FA-43D1-906E-FB0FA74A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A8BC-D813-4443-A2DF-F141ECE6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0C7A-978D-498F-AA8D-547212DFC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7576-4DAE-4724-8972-54C606D53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E9AB-9C65-4A36-8605-2C54BBB26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A857-EACA-4E8C-8701-D664921E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9A6-E5A7-45C7-8CA6-1AB769E9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95F0-D5B2-4581-975A-FDACAFC20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519A-D05B-4B56-8951-513483BF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B66E-6487-431D-A231-3B43B04D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89A4-9309-4974-87DC-13F4A4C86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EACA-24DC-4DF7-A6A5-AF9D8DFD7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DD54-1743-4E9D-99B6-B4C68EC3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CE94-3078-48C1-B360-60CCA9A00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3221-5C40-4473-8988-8B08A4F00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DB2C-8290-42E0-8A5A-19F2C449D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E286-4CB8-4ADC-8A24-E9E155D03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2997-4A0A-4386-ADA0-6830D30ACE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129B-4279-4605-BD51-B65F84C4E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5002-147A-43CD-856B-020B3577A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BBF7-274F-45CF-B136-18C72A2F2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D3CB-3F40-480C-A6C2-5525BFCA3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1A67-3755-4EB3-BC42-BAA74BD35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A357-9242-4332-8781-FD9CE00D5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D2FD-7508-4604-BAC2-B51134239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7AF3BD75-0F70-4392-A584-E3592CCB38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6A2746B0-CB5F-4DAF-AF0F-484EC4CBAB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4038480" y="3946680"/>
            <a:ext cx="49532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 j’ai téléphoné chez toi. Je suis tomb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une fill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ait très gent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2" descr=""/>
          <p:cNvPicPr/>
          <p:nvPr/>
        </p:nvPicPr>
        <p:blipFill>
          <a:blip r:embed="rId1"/>
          <a:stretch/>
        </p:blipFill>
        <p:spPr>
          <a:xfrm>
            <a:off x="762120" y="2171880"/>
            <a:ext cx="3276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1AF9E7C1-899D-4BAC-9825-56AE5505C6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lative pronoun to represent the obje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reposition. Note that the preposition is retained and always precedes the relative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3191040"/>
          <a:ext cx="7010280" cy="146340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474920">
                <a:tc>
                  <a:txBody>
                    <a:bodyPr lIns="90000" rIns="900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e citron bio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c lequel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vais faire la sauce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’s the organic lemon with which I am going to prepare the sau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a raiso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ur laquelle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suis ven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s is why (the reason for which) I ca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F4A534E3-D763-411A-A65E-486962D537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2514600" y="3662280"/>
            <a:ext cx="4114800" cy="152424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2514600" y="4643280"/>
            <a:ext cx="4114800" cy="10764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2514600" y="4195800"/>
            <a:ext cx="4114800" cy="76212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fo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qu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qu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quel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in gender and number with the objects they represent. Remember, too, that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tractions may be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743200" y="3733920"/>
          <a:ext cx="4114800" cy="1981080"/>
        </p:xfrm>
        <a:graphic>
          <a:graphicData uri="http://schemas.openxmlformats.org/drawingml/2006/table">
            <a:tbl>
              <a:tblPr/>
              <a:tblGrid>
                <a:gridCol w="1800360"/>
                <a:gridCol w="257040"/>
                <a:gridCol w="2057400"/>
              </a:tblGrid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</a:t>
                      </a: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</a:t>
                      </a: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qu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que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qu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qu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e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A8D6887D-6DD0-41A6-A8FE-502D7A7904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es not refer to people. If the object of the preposition is human, use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with the pre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3351240"/>
          <a:ext cx="7772400" cy="1206360"/>
        </p:xfrm>
        <a:graphic>
          <a:graphicData uri="http://schemas.openxmlformats.org/drawingml/2006/table">
            <a:tbl>
              <a:tblPr/>
              <a:tblGrid>
                <a:gridCol w="3429000"/>
                <a:gridCol w="716040"/>
                <a:gridCol w="3627360"/>
              </a:tblGrid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une relatio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 laqu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peux comp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’s a relationship I 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 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a femme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c qui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 très li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s is the woman with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 is very close-kn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4177C3F7-1583-43C8-8145-7A72AD9A61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relative pronoun refers to an unspecified antecedent,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do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ofte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2514600"/>
          <a:ext cx="9220320" cy="3772080"/>
        </p:xfrm>
        <a:graphic>
          <a:graphicData uri="http://schemas.openxmlformats.org/drawingml/2006/table">
            <a:tbl>
              <a:tblPr/>
              <a:tblGrid>
                <a:gridCol w="4965840"/>
                <a:gridCol w="4254480"/>
              </a:tblGrid>
              <a:tr h="379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roblèm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’inquiète, c’est le fossé des générations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roblem that worries me is the generation gap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viand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réfère, c’est la vola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eat that I prefer is poult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ingrédi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e a besoin, c’est un conservat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ingredients that she needs is a preserv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86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qu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’inquiète, c’est le fossé des générations.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worries me is the generation gap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réfère, c’est la vola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 prefer is poult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e a besoin, c’est un conservat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she needs is a preserv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DA9D3D70-283B-4930-9129-E3189484EC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pronouns are used to link two ideas containing a common element into a single, complex sentence, thereby eliminating the repetition of the common element. The relative pronoun to use is determined by the grammatical function of the noun it replaces,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54B0C755-741C-46CF-9CC6-0B1FE62CE6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ntences below, the common element, or antecedent,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nf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nf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ubject of the second sentence,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3657600"/>
          <a:ext cx="8458200" cy="2133720"/>
        </p:xfrm>
        <a:graphic>
          <a:graphicData uri="http://schemas.openxmlformats.org/drawingml/2006/table">
            <a:tbl>
              <a:tblPr/>
              <a:tblGrid>
                <a:gridCol w="2313000"/>
                <a:gridCol w="2563560"/>
                <a:gridCol w="35816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ère a grond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enfa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ther scolded the chil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enfa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pportabl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hild was unbear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ère a grondé l’enfa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pport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ther scolded the child who was unbear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81" descr="p101"/>
          <p:cNvPicPr/>
          <p:nvPr/>
        </p:nvPicPr>
        <p:blipFill>
          <a:blip r:embed="rId1"/>
          <a:stretch/>
        </p:blipFill>
        <p:spPr>
          <a:xfrm>
            <a:off x="2209680" y="3683160"/>
            <a:ext cx="609840" cy="14475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5"/>
          <p:cNvGrpSpPr/>
          <p:nvPr/>
        </p:nvGrpSpPr>
        <p:grpSpPr>
          <a:xfrm>
            <a:off x="7848360" y="3428640"/>
            <a:ext cx="609480" cy="304920"/>
            <a:chOff x="7848360" y="3428640"/>
            <a:chExt cx="609480" cy="304920"/>
          </a:xfrm>
        </p:grpSpPr>
        <p:sp>
          <p:nvSpPr>
            <p:cNvPr id="64" name="Line 36"/>
            <p:cNvSpPr/>
            <p:nvPr/>
          </p:nvSpPr>
          <p:spPr>
            <a:xfrm flipV="1">
              <a:off x="8445240" y="3428640"/>
              <a:ext cx="12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7"/>
            <p:cNvSpPr/>
            <p:nvPr/>
          </p:nvSpPr>
          <p:spPr>
            <a:xfrm flipH="1">
              <a:off x="7848360" y="342900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8"/>
            <p:cNvSpPr/>
            <p:nvPr/>
          </p:nvSpPr>
          <p:spPr>
            <a:xfrm>
              <a:off x="7848720" y="34290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81" descr="p101"/>
          <p:cNvPicPr/>
          <p:nvPr/>
        </p:nvPicPr>
        <p:blipFill>
          <a:blip r:embed="rId2"/>
          <a:stretch/>
        </p:blipFill>
        <p:spPr>
          <a:xfrm>
            <a:off x="4495680" y="365760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EF1AA552-E442-497C-B495-068885718D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a direc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2700360"/>
          <a:ext cx="8153280" cy="2108160"/>
        </p:xfrm>
        <a:graphic>
          <a:graphicData uri="http://schemas.openxmlformats.org/drawingml/2006/table">
            <a:tbl>
              <a:tblPr/>
              <a:tblGrid>
                <a:gridCol w="2133360"/>
                <a:gridCol w="2667240"/>
                <a:gridCol w="335268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lmon       is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ai trouv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found the salmo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ai trouv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lmon that I foun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81" descr="p101"/>
          <p:cNvPicPr/>
          <p:nvPr/>
        </p:nvPicPr>
        <p:blipFill>
          <a:blip r:embed="rId1"/>
          <a:stretch/>
        </p:blipFill>
        <p:spPr>
          <a:xfrm>
            <a:off x="2133720" y="2725560"/>
            <a:ext cx="60948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1" descr="p101"/>
          <p:cNvPicPr/>
          <p:nvPr/>
        </p:nvPicPr>
        <p:blipFill>
          <a:blip r:embed="rId2"/>
          <a:stretch/>
        </p:blipFill>
        <p:spPr>
          <a:xfrm>
            <a:off x="4876920" y="2700360"/>
            <a:ext cx="6094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6"/>
          <p:cNvGrpSpPr/>
          <p:nvPr/>
        </p:nvGrpSpPr>
        <p:grpSpPr>
          <a:xfrm>
            <a:off x="6157440" y="2514240"/>
            <a:ext cx="852480" cy="304920"/>
            <a:chOff x="6157440" y="2514240"/>
            <a:chExt cx="852480" cy="304920"/>
          </a:xfrm>
        </p:grpSpPr>
        <p:sp>
          <p:nvSpPr>
            <p:cNvPr id="76" name="Line 8"/>
            <p:cNvSpPr/>
            <p:nvPr/>
          </p:nvSpPr>
          <p:spPr>
            <a:xfrm flipV="1">
              <a:off x="6991920" y="2514240"/>
              <a:ext cx="180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H="1">
              <a:off x="6157440" y="2514600"/>
              <a:ext cx="85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6157800" y="25146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C676CA09-91D7-40AD-A2C3-DE1CF2CC45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23960" y="1571760"/>
          <a:ext cx="7696080" cy="2550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179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1330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nglish, relative pronouns can sometimes be omitted. Relative pronouns cannot be omitted in French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arent que j’ai perdu récemment était mon arrière-grand-père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elative (whom) I lost is was my great-grand-fathe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16051386-B264-4698-A71F-F389FD59B3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st participle that follows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s in gender and number with its antece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09480" y="269568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a tart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u a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ai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était délicieu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pie that you made was delicio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FD322DA5-ED97-43AD-9DFE-A9EC484870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tand for a place or a tim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t 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2768760"/>
          <a:ext cx="8076960" cy="251460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un supérett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peut trouver des produits biologiqu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a min-market where you can find organic foo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phone-moi au mom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re nièce arr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 me the moment that (when) our niece arriv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3" name="Group 23"/>
          <p:cNvGrpSpPr/>
          <p:nvPr/>
        </p:nvGrpSpPr>
        <p:grpSpPr>
          <a:xfrm>
            <a:off x="1980720" y="2514240"/>
            <a:ext cx="914040" cy="304920"/>
            <a:chOff x="1980720" y="2514240"/>
            <a:chExt cx="914040" cy="304920"/>
          </a:xfrm>
        </p:grpSpPr>
        <p:sp>
          <p:nvSpPr>
            <p:cNvPr id="94" name="Line 24"/>
            <p:cNvSpPr/>
            <p:nvPr/>
          </p:nvSpPr>
          <p:spPr>
            <a:xfrm flipV="1">
              <a:off x="2875680" y="2514240"/>
              <a:ext cx="1908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H="1">
              <a:off x="1980720" y="251460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1981080" y="25146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3200040" y="3733560"/>
            <a:ext cx="609480" cy="304920"/>
            <a:chOff x="3200040" y="3733560"/>
            <a:chExt cx="609480" cy="304920"/>
          </a:xfrm>
        </p:grpSpPr>
        <p:sp>
          <p:nvSpPr>
            <p:cNvPr id="98" name="Line 5"/>
            <p:cNvSpPr/>
            <p:nvPr/>
          </p:nvSpPr>
          <p:spPr>
            <a:xfrm flipV="1">
              <a:off x="3796920" y="3733560"/>
              <a:ext cx="12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"/>
            <p:cNvSpPr/>
            <p:nvPr/>
          </p:nvSpPr>
          <p:spPr>
            <a:xfrm flipH="1">
              <a:off x="3200040" y="37339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3200400" y="37339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5FBA0B2C-0A5F-495E-B9FC-3F196BE9FB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an object of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320" y="2921040"/>
          <a:ext cx="8991360" cy="2108160"/>
        </p:xfrm>
        <a:graphic>
          <a:graphicData uri="http://schemas.openxmlformats.org/drawingml/2006/table">
            <a:tbl>
              <a:tblPr/>
              <a:tblGrid>
                <a:gridCol w="2144520"/>
                <a:gridCol w="2884680"/>
                <a:gridCol w="396216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st allés à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hypermarch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ent to the super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t’ai parl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’hypermarch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alked to you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the super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st allés à l’hypermarch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t’ai parl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ent to the supermarket (that)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alked to you abo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81" descr="p101"/>
          <p:cNvPicPr/>
          <p:nvPr/>
        </p:nvPicPr>
        <p:blipFill>
          <a:blip r:embed="rId1"/>
          <a:stretch/>
        </p:blipFill>
        <p:spPr>
          <a:xfrm>
            <a:off x="4648320" y="2921040"/>
            <a:ext cx="6094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1" descr="p101"/>
          <p:cNvPicPr/>
          <p:nvPr/>
        </p:nvPicPr>
        <p:blipFill>
          <a:blip r:embed="rId2"/>
          <a:stretch/>
        </p:blipFill>
        <p:spPr>
          <a:xfrm>
            <a:off x="1752480" y="2946240"/>
            <a:ext cx="6098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7"/>
          <p:cNvGrpSpPr/>
          <p:nvPr/>
        </p:nvGrpSpPr>
        <p:grpSpPr>
          <a:xfrm>
            <a:off x="7756560" y="2666520"/>
            <a:ext cx="761760" cy="304920"/>
            <a:chOff x="7756560" y="2666520"/>
            <a:chExt cx="761760" cy="304920"/>
          </a:xfrm>
        </p:grpSpPr>
        <p:sp>
          <p:nvSpPr>
            <p:cNvPr id="109" name="Line 8"/>
            <p:cNvSpPr/>
            <p:nvPr/>
          </p:nvSpPr>
          <p:spPr>
            <a:xfrm flipV="1">
              <a:off x="8502120" y="2666520"/>
              <a:ext cx="1584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 flipH="1">
              <a:off x="7756560" y="266688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7756560" y="266688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7A69F05E-A531-4541-A07B-A9F9F3CBDF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dicate possessio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2616120"/>
          <a:ext cx="7086600" cy="279396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enfant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e père est autoritaire sont souvent puni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hildren, whose father is strict, are often punishe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1-20T22:26:36Z</dcterms:modified>
  <cp:revision>171</cp:revision>
  <dc:subject>D'accord! 3 • D'accord! 3 • Leçon 6: Les générations qui bougent</dc:subject>
  <dc:title>6.2 Demonstrative pronouns</dc:title>
</cp:coreProperties>
</file>